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B37-1A76-4255-9287-A09E1E8F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DB1-0BB0-4E73-A64B-D3C0A823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0EE-D725-4882-B51D-9B0E817E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4D6-915B-4356-AB22-0982D7D8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CDA66-B6C6-4FF0-9A8B-C0391EE8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E9BC6-E6A8-47FA-A360-9D2CC74B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4087E-EA7A-4540-9CCA-02886B11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DEA80-16FE-43CA-83D6-51E71ED8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8C0BE-5DFF-4AD1-BD3F-24158179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2B53-A6A4-4671-87DB-F4B11B65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778C3-BD20-48E2-8EE0-1C2BD52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519-57E2-4A05-96E4-E3E44FE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D0E48-2D7C-4B51-8FC9-F459A4C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49B2B-CC52-4F1A-89CE-4F5CA09A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6F9C6-9644-4935-9943-5BED9170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C1564-1AF7-4BA8-A837-F37BF079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AEEB-1F59-4F93-B953-E11E8ED9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CE6-B789-485C-85AF-559A4691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446-D338-4CC4-AB48-C337568C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D7B-6BF1-4055-B880-3CD6075E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35D-02E0-4E23-B70E-05319DE2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79F-DF4D-4E14-9252-9E79507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3D4-0805-4C18-BB84-D72A4DD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224-9483-4B59-86E6-CC1FDAD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D303-024F-41EE-B180-F81BE8C54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FF20-5ECA-4469-B2EC-173526408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solar/energy-and-you/affect/hydro.html" TargetMode="External"/><Relationship Id="rId3" Type="http://schemas.openxmlformats.org/officeDocument/2006/relationships/hyperlink" Target="http://ga.water.usgs.gov/edu/hyhowworks.html" TargetMode="External"/><Relationship Id="rId4" Type="http://schemas.openxmlformats.org/officeDocument/2006/relationships/hyperlink" Target="http://www.energyrefuge.com/archives/hydro-electricity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Alternative Energy Resource</a:t>
            </a:r>
            <a:br>
              <a:rPr sz="40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Hydroelectri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6720" y="54097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cript MT Bold"/>
              </a:rPr>
              <a:t>Chris Nguy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3657600" cy="300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38480" y="2590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What is hydroelectricit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droelectricity is an renewable energy that use of the power of the moving water to turns the turbine of the generator and produce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886200" cy="277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10080" y="3809880"/>
            <a:ext cx="24735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How does it work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mon power station that use hydroelectricity is the dam. Dam is a huge barrier that block the water in a side and release the water that is use to power up the generator and produce energy the other si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3 steps for producing electric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The water turns the turbines of the genera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The generator produces electric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The energy produce is send to the high voltage l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3238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er is a free renewable resou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er is the most abundant resource on Ear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tive all the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dro power plant are really cheap to oper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 is an economic way to produce ener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carbon dioxide emission =&gt; reduces the used of fossil fu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ack that is created during the built of the dam can be used as water park or for the purpose of the fish farm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62720" y="259092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2280" y="2590920"/>
            <a:ext cx="2114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Disadvantages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ect dramatically the eco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oding cause the destruction of plants and animals 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dams can cause soil ero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 relo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s are really expensive to bui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3276720" cy="2293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72200" y="144792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1906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power stations have limited locations for many reas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a close area: the water flow has to be between mountains or high elevation to prevent side fl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iddle/strong water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on risk area with low co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5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the power plants can be difficult for many reas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have to make research about the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lan have to be approved by the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a dam can cause the death of many species and the lost of historical th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ding will affect the zone where the dam is and also affect the different areas linked to the water fl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have to be relocated if the plan is appro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a dam is really expensive and takes a long time to be achie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epa.gov/solar/energy-and-you/affect/hydro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ga.water.usgs.gov/edu/hyhowwork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energyrefuge.com/archives/hydro-electricity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17:51Z</dcterms:created>
  <dc:creator>sasd</dc:creator>
  <dc:description/>
  <dc:language>en-US</dc:language>
  <cp:lastModifiedBy>sasd</cp:lastModifiedBy>
  <dcterms:modified xsi:type="dcterms:W3CDTF">2009-04-29T14:38:16Z</dcterms:modified>
  <cp:revision>16</cp:revision>
  <dc:subject/>
  <dc:title>Alternative Energy Resource Hydroelectricity</dc:title>
</cp:coreProperties>
</file>